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BAF7-8543-4580-8492-1111853E1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5532-9DB6-4525-AF6A-3425698FC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04FF-8A90-4845-81FD-AB2E349B2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C43-DCE7-4E0E-B1F2-8552031D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7A2-BE08-4AC4-8C17-093ECDF9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0BE-6BD1-4320-923B-0DAEA5FD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D42-6E27-485D-AE88-439542FC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48A-1A84-4B4B-BB9A-5F74C848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B8ED-BBB4-4D3E-9E1F-0F876CEB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5D62-AE3E-48B7-BEA0-DA18F632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2587-87F9-4974-BE77-3A01DDC9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4B4-752A-4249-82E7-084007B9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A21-E70E-4D4A-9BB2-4A0DCC89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4D66-A4AA-4F92-BB98-A5C6F46D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591-0297-4AF2-B33E-396DF271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D381-59F4-4497-8B33-588BAA288E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2D66-B3EE-4435-BAEA-9EE4CE9C1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fymag.com/" TargetMode="External"/><Relationship Id="rId2" Type="http://schemas.openxmlformats.org/officeDocument/2006/relationships/hyperlink" Target="http://www.wikipedi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 AUTOMATIC ENERGY EFFICIENT EMERGENCY LAMP USING PULSE WIDTH MODUL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935E-648C-4886-940C-26C781678D5D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8ECA-FE7A-4933-8E8C-567F44A5E202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380880" y="263520"/>
            <a:ext cx="861084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ple: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circuit. Components are easily available and low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tom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ally switches ON when the mains fails and turns OFF when mains power resumes. Also has its own battery charger which when fully charged stops charging automa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venien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our lives simpler , convenient to 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onomic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consumption is very less , proves to be more economic for the consu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 AND DISADVANTAGES OF LE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light per watt than incandescent bulb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n emit of an intended color without use of color fil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ery sm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/off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ight up very quick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yc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n be subjected to frequent on-off cyc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mm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n be dimmed by PW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7816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9E6B-AD8A-4672-A8BF-C99D1277EB1F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1043-E6FD-4DBF-9BA8-4E42F4F91737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80880" y="762120"/>
            <a:ext cx="8534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low fail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stly fail by dimming over time, rather than abrupt burn-out of incandescent bul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fe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ong useful lif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xi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EDs do not contain mercury, unlike fluorescent lam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urrently more expen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mperature depen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formance largely depends on the operating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ealth haz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ol white LEDs can cause problems to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8C26-8B34-487B-A316-E8AE07B60F19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Content Placeholder 5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380880" y="5335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OF LED LAMPS WITH OTHER LIGHTING TECHNOLOG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ject was concluded to be  innovative for the improvement of day today lif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 also adds a new look to the traditional lam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 of PWM helps us to reduce the wastage of energ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st of implementing this circuit is also very less - an added advantage in using this circu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EFC6-11CD-4708-B87E-D81B9C93C325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SCO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again modernize this project using PW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expected that with additional development and growing researches, the PWM will gain more popularity and the cost of these bulbs will eventually dec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is project can be adopted for mass production as cheap and efficient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7E32-EE0D-4610-9655-E34E61FF59EF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F4E1-B54D-4BCF-82BD-0C4A7DA72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C8B5-9BA0-430F-B3E5-50A695CAE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USER\My Documents\My Pictures\20100701\01072010116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akwad R.A.,OPAMPS &amp; Linear Integrated circuits, Prentice hall of Ind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l man J.,Microelectronics c Graw Hi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B Gupta.,Electronic devices and circuits, katson educational se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www.efymag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.wikipedia.or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C5C1-5B87-4141-B457-3078CDAD628D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DIA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DIA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TIVE STUDY OF CIRCUIT WITH AND WITHOUT PW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 AND DISADVANTAGES OF 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OF LED LAMPS WITH OTHER LIGHTING TECHNOLOG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AC70-2377-48A4-9325-D3EBD770BD7E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ing demand for the saving of electri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in power supply causes difficulty and inconveni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utomatic emergency lamp that uses LED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y bright due to use of white LE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s on when mains supply fails ,turns off when power resu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own battery charger –stops  charging automatically when fully charg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ject aims to develop most power efficient and user friendly produ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5A74-FE2B-404E-B28D-BA9379A10099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power consumption by using a low-cost, automatic white LED based emergency lamp using PW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4486-195F-43B9-B4D9-AAD977B43AB5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C20C-8306-494F-B580-3657593003C6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553080" y="1828800"/>
            <a:ext cx="18288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838080" y="4495680"/>
            <a:ext cx="22860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RANS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886200" y="4495680"/>
            <a:ext cx="190512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RIDGE RECTIFIER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6477120" y="4495680"/>
            <a:ext cx="18288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EGULATION USING LM3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838080" y="1828800"/>
            <a:ext cx="213372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ED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3962520" y="1828800"/>
            <a:ext cx="190476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WM USING ASTABLE OPERATION OF 5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12"/>
          <p:cNvSpPr/>
          <p:nvPr/>
        </p:nvSpPr>
        <p:spPr>
          <a:xfrm>
            <a:off x="3124080" y="5029200"/>
            <a:ext cx="762120" cy="380880"/>
          </a:xfrm>
          <a:prstGeom prst="rightArrow">
            <a:avLst>
              <a:gd name="adj1" fmla="val 63796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13"/>
          <p:cNvSpPr/>
          <p:nvPr/>
        </p:nvSpPr>
        <p:spPr>
          <a:xfrm>
            <a:off x="5791320" y="5029200"/>
            <a:ext cx="6858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Up Arrow 14"/>
          <p:cNvSpPr/>
          <p:nvPr/>
        </p:nvSpPr>
        <p:spPr>
          <a:xfrm>
            <a:off x="7162920" y="3200400"/>
            <a:ext cx="457200" cy="1295280"/>
          </a:xfrm>
          <a:prstGeom prst="up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eft Arrow 15"/>
          <p:cNvSpPr/>
          <p:nvPr/>
        </p:nvSpPr>
        <p:spPr>
          <a:xfrm>
            <a:off x="5867280" y="2362320"/>
            <a:ext cx="6858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eft Arrow 16"/>
          <p:cNvSpPr/>
          <p:nvPr/>
        </p:nvSpPr>
        <p:spPr>
          <a:xfrm>
            <a:off x="2971800" y="2286000"/>
            <a:ext cx="990720" cy="53352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AF36-DCB8-4B4B-AC45-49B83D50F794}" type="slidenum">
              <a:rPr b="1" lang="en-US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467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ckt 22.png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lvl="1" marL="12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ircuit has three sections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rger power supply section</a:t>
            </a: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: steps down(9V,500m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 rectifier: rectifies transformer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M317: voltage reg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ery: provides supply when mains fai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ner diode: conducts when battery crosses its capa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7086600" y="6248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1"/>
          <p:cNvSpPr/>
          <p:nvPr/>
        </p:nvSpPr>
        <p:spPr>
          <a:xfrm>
            <a:off x="67057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DA4C-4B42-4AF0-909B-99EEC1BA2E9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04920" y="990720"/>
            <a:ext cx="883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5 timer sec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the LED section by PW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 driver s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round BD 14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white LEDs connected in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 section glows when mains f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e to blink using astable operation of 55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 fulltime ON due to persistence of 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ircuit without pw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876920" y="3962520"/>
          <a:ext cx="3733560" cy="2590560"/>
        </p:xfrm>
        <a:graphic>
          <a:graphicData uri="http://schemas.openxmlformats.org/drawingml/2006/table">
            <a:tbl>
              <a:tblPr/>
              <a:tblGrid>
                <a:gridCol w="3733560"/>
              </a:tblGrid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tage across each LED = 2.74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rent through each LED = 2.5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er consumed by each LED = 6.85 m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ower consumed by LED array = .0822 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23920" y="6091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ircuit with pw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12" descr="ckt 22.png"/>
          <p:cNvPicPr/>
          <p:nvPr/>
        </p:nvPicPr>
        <p:blipFill>
          <a:blip r:embed="rId1"/>
          <a:stretch/>
        </p:blipFill>
        <p:spPr>
          <a:xfrm>
            <a:off x="4800600" y="1371600"/>
            <a:ext cx="3886200" cy="236232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2"/>
          <p:cNvSpPr/>
          <p:nvPr/>
        </p:nvSpPr>
        <p:spPr>
          <a:xfrm>
            <a:off x="70102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06AE-E8E8-404A-8989-EB1A4A6A67AB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led-emergency.jpg"/>
          <p:cNvPicPr/>
          <p:nvPr/>
        </p:nvPicPr>
        <p:blipFill>
          <a:blip r:embed="rId2"/>
          <a:stretch/>
        </p:blipFill>
        <p:spPr>
          <a:xfrm>
            <a:off x="304920" y="1371600"/>
            <a:ext cx="4190760" cy="2362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80880" y="3962520"/>
          <a:ext cx="3981600" cy="2611440"/>
        </p:xfrm>
        <a:graphic>
          <a:graphicData uri="http://schemas.openxmlformats.org/drawingml/2006/table">
            <a:tbl>
              <a:tblPr/>
              <a:tblGrid>
                <a:gridCol w="3981600"/>
              </a:tblGrid>
              <a:tr h="26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tage across each  LED  = 2.96 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rent through each  LED  = 2.7 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er consumed by each LED = 7.992m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ower consumed by LED array = .095904 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1:15:37Z</dcterms:created>
  <dc:creator/>
  <dc:description>Electrical Projects</dc:description>
  <dc:language>en-US</dc:language>
  <cp:lastModifiedBy>Brigade</cp:lastModifiedBy>
  <dcterms:modified xsi:type="dcterms:W3CDTF">2011-08-24T20:07:47Z</dcterms:modified>
  <cp:revision>0</cp:revision>
  <dc:subject>Electrical Projects</dc:subject>
  <dc:title>EEE IEEE Projects</dc:title>
</cp:coreProperties>
</file>